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16B-36CD-4C5E-B7B0-A94DFF5C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A3C-AD24-47A1-9511-B336DDE9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62D-284A-4873-A4B8-5F8E4770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8D5-BDA0-4B55-A0DA-23366B6C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717A-92B3-46E9-A0C0-092DCD25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CCAF-3CEB-4525-AFB2-4B42141E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975D-12D4-47FD-91B6-F08AE0BC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1B14-5BA2-4DD3-BBF8-57790481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6941-CE8E-4B88-9F9B-594F9CF2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29FB-9C35-443A-AAB3-49BE538D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4DAA-904C-463A-90EF-99395E4E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FAF-B51E-4A98-A3BF-42B0D6D9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4396-414A-407F-B178-D0D1DA13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6E5-1DBF-4B15-AC31-B0DA8268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F17B-5E8E-46E5-819F-5043C196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EB0C-F608-41FA-85B3-94F9746B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8305-DD99-464F-A477-733E1EDD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B04B-AC86-46B4-9A62-4F925472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F74E-E0F8-46D7-82CB-DBA5C5CF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6904-1012-438B-B3D9-3B9A86D3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06C4-FE86-4162-BED8-209EC990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D47A-0281-46BC-9DE3-724F27A8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CBE-462C-4C7B-A95F-FFF14E8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74E8-963E-43E4-BBAC-92E66225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E6CE-86E3-41E3-8B5E-03244C6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07E94-FCCC-44A7-82BE-F37F89F5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262C-0D43-4B56-934D-BFE83B5E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38799-19C6-4A89-841A-1F313692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BCB1-2C52-47BB-B60C-C58A0D7E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F724-B8C9-4EF2-B8D7-3307CA9F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41D3-0D29-44CB-ABFF-4E3FFE7B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F00B-09CF-438B-A375-364B7C6D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D3364-BDD8-4C6A-98EF-422ECA69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160-16B0-4704-8CD1-56AEED8C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7747E-9A24-430E-8869-B121440A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12D5D-2DF0-4DDA-95C5-15B4FDC7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0C1B-276B-4741-8DCF-A53F96F6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AEAC-A3F0-494C-833E-D9EADE14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F76F-356D-4E97-9117-7312A98A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2D46-C8BF-4A3C-9A5D-61CE2261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C01B-95D2-4F4A-9F30-AD75D7FC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D2CE-9C66-4A29-8FF0-F8756877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FFFD-0BE9-44E4-8EB2-11610580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EDE5-16C7-4D3B-9CEE-9E4969AA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192-E608-42CE-8A1E-AFD7B300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DC4A3-B2DA-4C00-849E-ACE1FED3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5D4DC-7E3F-4885-878D-A690D7CD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FABF-0A51-44A7-AD2F-2AB0F10F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1096-CA40-4AED-B01B-02A417DC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B1AF-BF99-4BEA-A3FE-8D434C7D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A006-6F63-4DA6-8BD9-D0B7513D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0798E-0897-4903-9A1A-4F7CF10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9FA92-7727-4B54-8265-ECE96BC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9FBBD-4690-45B9-B4B8-D5B0608B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1A8E2-8775-47BF-BD16-F3464A0A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3C3-EDB6-4140-A7BE-09691F81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00593-2739-477E-B5B5-49E9D98F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5F51E-592D-46CD-BFF2-97DAD603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73114-F620-44DA-AE47-D9BFCA53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B751-E4C4-4729-9353-C17464FF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D3AC0-8737-4B2D-B87D-DFC3D807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641BD-314D-4C29-B860-DB84CCCC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FA007-9270-4360-B656-C5A3F5CB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76C3F-C4F0-4A0D-AE84-CC64627D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FA873-F5EF-4444-A53C-3B2CCA81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80877-A405-4F4B-9025-F6E7A1E7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5CD-DCD0-4D74-95E9-BD364B1A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8B420-82F5-40AE-965A-9D9BB60B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5AAE-5BD2-403D-86DE-923C5F94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CDDEA-3061-4372-9162-C2E0BED1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4A6-D66B-4D65-9FFE-0DB8C083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FA9-7891-41CB-B235-6E544422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18CE-9269-45A0-A9DC-7E958FBF7C3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DE88-FF30-49F4-9DEE-DA09F8E019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6D28-C073-488A-8DF4-B28DA22630D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503B-86D3-4AB7-B2B4-70FF0E3629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6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7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700B-EEA3-475D-ABDB-FF8E8D35428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5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6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6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8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4842-BFD1-4EE8-BD7C-8CFC7E90822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Тема проекта</a:t>
            </a:r>
            <a:br>
              <a:rPr sz="6000"/>
            </a:b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Автор</a:t>
            </a:r>
            <a:br>
              <a:rPr sz="6000"/>
            </a:b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Руководитель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Цели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и задачи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Admin</cp:lastModifiedBy>
  <dcterms:modified xsi:type="dcterms:W3CDTF">2009-12-06T22:29:16Z</dcterms:modified>
  <cp:revision>62</cp:revision>
  <dc:subject/>
  <dc:title>Слайд 1</dc:title>
</cp:coreProperties>
</file>